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372-1EBA-41C2-A649-DBA5E49B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374-8DBE-4FCE-9FAA-2FAE4E43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2C4-9E43-4CC6-9383-F860C6C2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842-88B2-4940-ACB1-2DDC2DF4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A8364-90A1-469B-AFE6-53711383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20A28-EBEE-4BC1-8969-5A6887F4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3B46C-BB85-4196-AE1D-D64F908A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B74B1-2995-4182-AF08-ABEC5065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62A1D-7763-4689-8444-B28645EA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3ABDB-F118-46FD-BA77-927AFB20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2B616-FB3C-42E0-AC58-1D8272A6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C70-9E69-4222-B661-1EB3E038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F099B-BD5A-47EA-83A6-50DEC496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DB7D0-3E25-4033-9B1F-1C7ADDB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0BE42-1787-4926-9A83-1779A3AD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23FE1-2C1A-492D-BB65-05E07920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8A35B-6B1A-46BA-806B-0F9CB6A5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61E-B60D-4DDB-BA43-B06A9EA7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CEB-AB08-40E3-9DC3-D0F075ED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5D9-EAD8-4C0E-A324-8F2FE51F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0D9-3249-4E60-BF45-E5B19C0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F5D-79D2-42D1-AB4D-9E3F4E1B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DD1-DF08-43C8-8EC4-DFC90F1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39D-5F42-4C32-9FB4-326E3186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47C8-6A59-45B1-A09F-68EAE0D05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0DF4-D3D3-4069-B2B9-AE35DEED7A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1356840"/>
            <a:ext cx="864396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00000"/>
                </a:solidFill>
                <a:latin typeface="Arial Black"/>
              </a:rPr>
              <a:t>Водные ресурсы и человек</a:t>
            </a:r>
            <a:br>
              <a:rPr sz="6600"/>
            </a:b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2c"/>
                </a:solidFill>
                <a:latin typeface="Tahoma"/>
              </a:rPr>
              <a:t>Вода – бесценная жидкость, дающая жизнь всему живом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ahoma"/>
              </a:rPr>
              <a:t>Водные ресурсы – это та часть поверхностных и подземных вод, которая может быть использована для снабжения водой населения и для  различных видов человеческой деятель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-main-pic" descr="Картинка 35 из 535"/>
          <p:cNvPicPr/>
          <p:nvPr/>
        </p:nvPicPr>
        <p:blipFill>
          <a:blip r:embed="rId1"/>
          <a:stretch/>
        </p:blipFill>
        <p:spPr>
          <a:xfrm>
            <a:off x="1403280" y="2058840"/>
            <a:ext cx="62643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Водные пу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Энергия рек, приливов (ГЭС, ПЭ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ромышленность и сельское хозяйст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9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3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итье и бытовые продукт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833400"/>
          <a:ext cx="9144000" cy="27464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1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  <p:sp>
        <p:nvSpPr>
          <p:cNvPr id="106" name="Прямоугольник 4"/>
          <p:cNvSpPr/>
          <p:nvPr/>
        </p:nvSpPr>
        <p:spPr>
          <a:xfrm>
            <a:off x="0" y="38577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2c"/>
                </a:solidFill>
                <a:latin typeface="Tahoma"/>
              </a:rPr>
              <a:t>Рыбное хозяйство, промышленность, сельское хозяйство, коммунальное хозяйство (вода в квартире), гидроэнергетика (ГЭС), полив улиц, купание в реке, рыбалка на берегу с удочкой, речной транспорт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000160"/>
          <a:ext cx="9144000" cy="3657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н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Гидроэнергетика (ГЭС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ечной транспор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упание в рек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алка на берегу с удочко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ромышленност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ельск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оммунальное хозяйство (вода в квартире), полив ули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000080"/>
          <a:ext cx="9144000" cy="4108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7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00080"/>
          <a:ext cx="9144000" cy="5772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итье, водные пути, энергия рек, отдых, использование для промышленных и с/х нуж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Неравномерное размещение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ихийные бедствия: наводнения, паводки, цунами, ветровые волн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роительство очистных сооружений, оборотная система водоснабжения, экономия вод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Забор воды из рек и озер для нужд промышленности и с/х. Сплав древесины, загрязнение вод, создание водохранилищ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4:25:57Z</dcterms:created>
  <dc:creator>PC176</dc:creator>
  <dc:description/>
  <dc:language>en-US</dc:language>
  <cp:lastModifiedBy>Карпова МЮ</cp:lastModifiedBy>
  <dcterms:modified xsi:type="dcterms:W3CDTF">2011-12-20T06:46:53Z</dcterms:modified>
  <cp:revision>18</cp:revision>
  <dc:subject/>
  <dc:title>Поверхностные   воды РБ</dc:title>
</cp:coreProperties>
</file>